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C414-7299-458D-BE5D-630AB1B74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24D1-1DF2-417A-92BE-3D5A57E098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2210-E5B4-4911-90D5-E1EE1AE0E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CF8D-C1A6-426C-965F-1DCCDDA2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B431-0305-42CD-8BE7-3CC87D97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FC75-411C-4BA0-9D4B-CB93570C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C89B-8AEE-49F9-BB05-53E832AA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0F63-3177-433D-AA1F-F97B7178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A217-AF30-464C-8549-23826600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DE61-B522-41CD-BFED-86FF9FAC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A9CD-33A6-44E9-889D-7E3349B1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17BD-112B-4BBE-869F-F44A1439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8124-2D5E-4ADC-9095-3999F24A3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F7CB-BFAF-4A3B-A1B7-153ECE1E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9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36D6-A688-43E7-9074-AE82CBF0EE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71247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112480" y="4648320"/>
            <a:ext cx="4575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 Placeholder 2"/>
          <p:cNvSpPr/>
          <p:nvPr/>
        </p:nvSpPr>
        <p:spPr>
          <a:xfrm>
            <a:off x="2438280" y="3733920"/>
            <a:ext cx="4575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Operational iss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Framework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45" name="Content Placeholder 3" descr=""/>
          <p:cNvPicPr/>
          <p:nvPr/>
        </p:nvPicPr>
        <p:blipFill>
          <a:blip r:embed="rId1"/>
          <a:stretch/>
        </p:blipFill>
        <p:spPr>
          <a:xfrm>
            <a:off x="1069920" y="1600200"/>
            <a:ext cx="7004160" cy="45259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4"/>
          <p:cNvSpPr/>
          <p:nvPr/>
        </p:nvSpPr>
        <p:spPr>
          <a:xfrm>
            <a:off x="1069920" y="6172200"/>
            <a:ext cx="5483160" cy="4572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World Health Organization (20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caling 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1"/>
          <a:srcRect l="15176" t="23270" r="-378" b="0"/>
          <a:stretch/>
        </p:blipFill>
        <p:spPr>
          <a:xfrm>
            <a:off x="762120" y="1488960"/>
            <a:ext cx="70866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perational issues  - general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Gener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caling up or ou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to involve local (especially district ag) institu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nitoring data collection (DCFs, Success stori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change visi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FAKA presence – new/old are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perational issues - expansion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Expan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FAKA presence (old and new region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am partnership (some already in new areas, others no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ty entry (new are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nnaissance visit and buy-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al re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5-07-09T05:08:44Z</dcterms:modified>
  <cp:revision>21</cp:revision>
  <dc:subject/>
  <dc:title>PowerPoint Presentation</dc:title>
</cp:coreProperties>
</file>